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rbrake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3ECE-833F-4306-8459-7F562A2466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ditional Marxism and crime and dev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me is a product of pover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me is brought about by capital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al Marxism and 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is a product of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is brought about by capit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the one hand it suggests that working-class people are simply innocent people who are picked on by the poli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the other hand it suggests that working class people who engage in crime are really engaged in political action by opposing the capitalist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ne hand it suggests that working-class people are simply innocent people who are picked on by the pol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 it suggests that working class people who engage in crime are really engaged in political action by opposing the capitalis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the basic values and morality of a socie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ciety is dominated and controlled by those at the hel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ol is maintained via the socialisation process and thr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the basic values and morality of a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ety is dominated and controlled by those at the he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 is maintained via the socialisation process and thr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LUES OF FREED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LF-INTER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S OF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nctionalists:  law reflects the will of the peo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xists:  law is a reflection of the will of the powerfu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economic power guarantees political and social power, the rich can manipulate the rest of us and pass laws that benefit th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‘set the agenda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sts:  law reflects the will of the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xists:  law is a reflection of the will of the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economic power guarantees political and social power, the rich can manipulate the rest of us and pass laws that benefi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‘set the agenda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 Order and Criminal Justice Act (199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Order and Criminal Justice Act (199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ENFORC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et crime’ is more likely to be pursued by police than ‘white collar’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nsified policing and punishment of poorer individuals and commun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oor are filtered into the criminal justice system while the rich are filtered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ENFOR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 crime’ is more likely to be pursued by police than ‘white collar’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fied policing and punishment of poorer individuals and comm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or are filtered into the criminal justice system while the rich are filtere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VIDUAL MOTIVATION FOR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capitalist societies the cultural stress in on competition, not cooperation, and the acquisition of weal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re for money can lead those who are blocked off from legitimate chances of gaining wealth to turn to criminal methods (anomi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d is built into the capitalist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MOTIVATION FOR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apitalist societies the cultural stress in on competition, not cooperation, and the acquisition of w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for money can lead those who are blocked off from legitimate chances of gaining wealth to turn to criminal methods (anomi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d is built into the capitalis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ft ideal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gnore the consequences for the victims of street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et crime tends to be intra-class, not inter-cla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ide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ore the consequences for the victims of street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 crime tends to be intra-class, not inter-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ems to suggest that the high rate of recorded crime among the working class, youth and blacks is solely the outcome of biased polic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the same time they argue the laws are biased against the working class, forcing them into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all laws are in the interests of the ruling-class on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to suggest that the high rate of recorded crime among the working class, youth and blacks is solely the outcome of biased poli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same time they argue the laws are biased against the working class, forcing them into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laws are in the interests of the ruling-clas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EA2A-7087-4670-B2FD-43A9A7B8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DB71-DD36-4E34-A0D2-15DEF961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72DA-3F6E-497C-8EED-CBC27A038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C310-C2A1-4BB7-A5DC-58F389E4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55C4-6D76-4B9F-8A99-314CB9F5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A736-138A-4A54-AA02-05D20536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95F4-7E0D-4BBF-9113-833EE5A3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C110-E7F9-476C-9682-F14B5086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4F37-2C55-4954-BA48-FE4CD479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605B-C5CE-42D6-B9D6-D7E98659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20E6-4A1D-470F-B974-F603C2B6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1440-31B2-47FC-B32F-7CA4B9B6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BAEC-F0F8-4E5E-AD6F-F459D06A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7DE3-5CAA-438B-9B0F-F7AC8327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C3DF-8943-4686-9BE9-1CB765A5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26A4-4397-4B47-9DE0-E93841C9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5ECA-56F1-4AF1-BAA6-24D539FC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BDEE-6F80-4E7F-8D1D-CB3C6916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5CD0-F31A-4017-B570-6250522C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F488-E8B6-4520-8163-53BC4F5B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DBB2-4FC6-4E10-9321-7387C46F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F1D8-BDC7-4CF7-9C7E-449BCFD2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9676-0715-4045-81CC-FCA2F90E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B52C-579F-4409-8CFC-E3AADDF5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9027-41C7-4A58-B847-3909A5C4B3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D6E9-1107-4F18-BAE3-75140021975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RADITIONAL MARXISM AND "/>
              </a:rPr>
              <a:t>Traditional Marxism and crime and 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Crime is a product of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pover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Crime is brought about by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capital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6" descr="crime"/>
          <p:cNvPicPr/>
          <p:nvPr/>
        </p:nvPicPr>
        <p:blipFill>
          <a:blip r:embed="rId1"/>
          <a:stretch/>
        </p:blipFill>
        <p:spPr>
          <a:xfrm>
            <a:off x="685800" y="2003400"/>
            <a:ext cx="380988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On the one hand it suggests that working-class people are simply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nocent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people who are picked on by the pol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On the other hand it suggests that working class people who engage in crime are really engaged i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olitical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ction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by opposing the capitalist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ANIPULATION OF VAL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Manipulation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of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basic valu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and morality of a soci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ociety is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dominated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and controlled by those at the hel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ontrol is maintained via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socialisation process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r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9" descr="hammock2"/>
          <p:cNvPicPr/>
          <p:nvPr/>
        </p:nvPicPr>
        <p:blipFill>
          <a:blip r:embed="rId1"/>
          <a:stretch/>
        </p:blipFill>
        <p:spPr>
          <a:xfrm>
            <a:off x="324000" y="2349360"/>
            <a:ext cx="4101840" cy="32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ANIPULATION OF VAL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VALUES OF FREE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SELF-INTE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PET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11" descr="BigBrotherPoster"/>
          <p:cNvPicPr/>
          <p:nvPr/>
        </p:nvPicPr>
        <p:blipFill>
          <a:blip r:embed="rId1"/>
          <a:stretch/>
        </p:blipFill>
        <p:spPr>
          <a:xfrm>
            <a:off x="900000" y="1628640"/>
            <a:ext cx="320544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CRE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alist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:  law reflects the will of the 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Marxist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:  law is a reflection of the will of the powerf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s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conomic power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guarantees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olitical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ocial power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, the rich can manipulate the rest of us and pass laws that benefit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y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set the agenda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6" descr="law creation"/>
          <p:cNvPicPr/>
          <p:nvPr/>
        </p:nvPicPr>
        <p:blipFill>
          <a:blip r:embed="rId1"/>
          <a:stretch/>
        </p:blipFill>
        <p:spPr>
          <a:xfrm>
            <a:off x="851040" y="1641600"/>
            <a:ext cx="34797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CRE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03640" y="1341000"/>
            <a:ext cx="3810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Public Order and Criminal Justice Act (199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10" descr="drummer"/>
          <p:cNvPicPr/>
          <p:nvPr/>
        </p:nvPicPr>
        <p:blipFill>
          <a:blip r:embed="rId1"/>
          <a:stretch/>
        </p:blipFill>
        <p:spPr>
          <a:xfrm>
            <a:off x="324000" y="2349360"/>
            <a:ext cx="4387680" cy="30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ENFORC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treet crime’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is more likely to be pursued by police tha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white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ollar’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cr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tensified policing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unishment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of poorer individuals and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 poor ar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iltered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to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 criminal justice system while the rich ar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iltered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6" descr="LAW ENFORCEMENT"/>
          <p:cNvPicPr/>
          <p:nvPr/>
        </p:nvPicPr>
        <p:blipFill>
          <a:blip r:embed="rId1"/>
          <a:stretch/>
        </p:blipFill>
        <p:spPr>
          <a:xfrm>
            <a:off x="979560" y="1641600"/>
            <a:ext cx="322092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NDIVIDUAL MOTIVATION FOR CR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 capitalist societies the cultural stress in o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ompetition,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not cooperation, and th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cquisition of w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Desire for money can lead those who are blocked off from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egitimate chance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of gaining wealth to turn to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riminal method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(anomi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Greed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is built into the capitalist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11" descr="materialism"/>
          <p:cNvPicPr/>
          <p:nvPr/>
        </p:nvPicPr>
        <p:blipFill>
          <a:blip r:embed="rId1"/>
          <a:stretch/>
        </p:blipFill>
        <p:spPr>
          <a:xfrm>
            <a:off x="685800" y="2521080"/>
            <a:ext cx="380988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Left ideal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Ignore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consequenc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for the victims of street cr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treet crime tends to b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intra-clas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, not inter-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eems to suggest that the high rate of recorded crime among the working class, youth and blacks is solely the outcome of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iased polic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At the same time they argue the laws are biased against the working class,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forcing them into cr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t all laws are in the interests of the ruling-class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1:02:16Z</dcterms:created>
  <dc:creator>aileend</dc:creator>
  <dc:description/>
  <dc:language>en-US</dc:language>
  <cp:lastModifiedBy>RomaK</cp:lastModifiedBy>
  <dcterms:modified xsi:type="dcterms:W3CDTF">2015-09-02T09:55:38Z</dcterms:modified>
  <cp:revision>8</cp:revision>
  <dc:subject/>
  <dc:title>Traditional Marxism and crime and deviance</dc:title>
</cp:coreProperties>
</file>